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797-D2A3-41AC-BDFA-D27B594C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836-D83B-4E7B-8C26-3BA6AAB2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CEC-A896-4C9E-8BA3-5D9A46A9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8F9-BB54-4184-85FF-270B8290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F485-1B76-4346-9913-3840BC2E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7398-2700-4712-BEE0-C633F0F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E1D7-7939-4B0F-94AE-F7B6E20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CAC-72F7-4F35-9462-34F2410F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6D2C-7F57-4EB8-8C26-CF8E2BE6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433-BD5B-4CA2-A2EC-426E4F1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E060-38D1-4F5D-906B-A9743B1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1A0-48E4-4C3B-8612-2EFE9D9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94C-3712-46B7-BB5B-20AC35E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98B-506E-40B4-BDC4-B58CF6B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FEB-B27F-4519-BD29-5DF2F58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6609-6C4B-4A4C-B137-ACA7B64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0FC-06EB-4B47-9AC9-ADD85DD4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DCD5-D3BB-47AA-AC9F-9B1E0534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6B68-3190-47FE-A387-1F36797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2AA0-C7E7-4388-A133-FA207C91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CFA3-BE71-4FF0-9F0D-D79309E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BA68-1D93-43F4-9DF8-849E1299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621-F69A-43B8-84E4-BC6A5FD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609E-60D0-49D2-89A2-D6439261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D026-867E-4505-B29F-13DDFCD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6FB0-4F05-46DC-99F6-59854D0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FF47-146E-4E9D-A415-A7AD5F06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1E3E-8F8A-407A-8CB2-00527D0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662B-E8DB-4EA6-ADC8-1D710E83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DDD3-3668-44D0-BF6E-C7F74C27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D746-53B8-4120-B6D5-9139DE50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EF1F-CBBB-442E-8805-CD1A148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71F6-E988-4F3E-9B64-96D68271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1A7-F9D8-4804-B079-12CE02B1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A0B8-86BB-47A0-981E-A7773EA8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3365-D4E2-4C1F-8206-592499F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42BD-A6DD-43E7-85A7-4F12CE0B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4BBB-D270-4E45-BD26-D141A92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4B9F-59E3-45C1-943E-C4DF2A7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DC19-1C5B-4AF3-8665-01EEF3C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D164-7B30-4C67-83E9-906A04F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2353-00F3-46E7-8DFC-D65570FF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1D5C-DACB-4ED7-9FD2-CD1CA805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F7A9-8A38-4175-A28D-9F534CBF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6B9-1D40-4F8E-9635-69883C67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4395C-B433-430D-AF7E-9FB9EA5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3BB41-7753-417D-B870-DB6E45D8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D3CF-A08E-4172-9C20-C1607EE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0929-5F46-460A-BD6A-5330C93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316D-9DE4-4636-AC69-F34F249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A758-45BA-40B8-93A0-793A1B7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5759-F530-4B10-9677-25ABF11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9965-8D40-4D05-8D72-304F665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8907-9100-483F-8746-ED1AB72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17D8-1913-4D36-B861-E58C228C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BD6-4D54-4355-A3E5-565C414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33F9-415A-4A9A-84CD-B51455A2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415-0A2A-4355-91D7-0F43436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DC2-3C9D-441D-8955-D8789810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A46-8943-4025-BF56-829E81B1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E70-B78D-411B-B7AA-983CEAA231B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8C4-AAF4-49DA-A73F-3FAF63B6BD0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FCE6-A7AF-4A55-A6A3-6C75B9604E7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CEC-DAA8-4600-9136-42895ED1ACC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D22E-6EBE-4546-BD2C-7B1D55A5E32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тов к Труду и Оборон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тягивания прямым хв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диционный вариант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акцен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ышцы спины и предплеч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н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озьмитесь за перекладину хватом, равным ширине плеч. Повисни, немного прогнув спину и скрестив ноги. Подтягивайся, сводя лопатки и стараясь коснуться перекладины верхом груди. Когда отпускаешься в нижней точке полностью выпрямляй р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тягивания обратным хв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вариант легче предыдущего. Основной акцент: широчайшие мышцы спины и бицеп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нение: хват, равный ширине плеч, только ладони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бя. Подтягивайся, придерживаясь тех же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C:\Users\Ждановы\Desktop\ex04-1.gif"/>
          <p:cNvPicPr/>
          <p:nvPr/>
        </p:nvPicPr>
        <p:blipFill>
          <a:blip r:embed="rId2"/>
          <a:stretch/>
        </p:blipFill>
        <p:spPr>
          <a:xfrm>
            <a:off x="7429680" y="2143080"/>
            <a:ext cx="1546200" cy="154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Users\Ждановы\Desktop\ex08-2.gif"/>
          <p:cNvPicPr/>
          <p:nvPr/>
        </p:nvPicPr>
        <p:blipFill>
          <a:blip r:embed="rId3"/>
          <a:stretch/>
        </p:blipFill>
        <p:spPr>
          <a:xfrm>
            <a:off x="7143840" y="4857840"/>
            <a:ext cx="1690560" cy="1690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жде чем приступать к тренировкам по подтягиваниям, нужно определить к какой группе относишься ты. Выполняй предписанный комплекс 2-3 раза в неделю и через месяц протестируй себя и внеси корре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вая группа. Лучшая попытка от 0 до 1 раз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выполняй только обратную часть подтягиваний. Подставь под перекладину лавку, встань на нее и подтягивайся вверх с помощью ног, а отпускайся только за счет силы рук. Между сериями отдыхай ровно 1 мину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неделя: 3 серии по 5-6 повторов, 5-6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неделя: 3 серии по 5-6 повторов, 5-6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неделя: 3 серии по 5-6 повторов, 8-10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неделя: 3 серии по 5-6 повторов, 8-10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торая группа. Лучшая попытка от 2 до 4 р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делай большее количество серий с меньшим количеством повторов. Самые первые повторы будут максимально интенсивными, что позволит задействовать большинство мыш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неделя: 8 серий, 50% от лучшей попытки, 9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неделя: 8 серий, 50% от лучшей попытки, 6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неделя: 8 серий, лучшая попытка, 9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неделя: 8 серий, лучшая попытка, 6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ретья группа. Лучшая попытка от 5 до 7 ра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: делай большее количество раз, чем обычно, не считая количество серий. Например если ты обычно выполняешь 3 серии по 6 раз, что в сумме будет 18, сделай 30 раз, не обращая внимания на количество сер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й максимальное количество подтягиваний, отдохни минуту и повтори попытку. Далее отдыхай сколько захочешь пока не сделаешь необходимое количество раз. Каждую неделю количество раз можно незначительно увеличива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етвертая группа. Лучшая попытка от 8 до 12 раз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: подтягивайся с отягощ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репи к специальному поясу отягощение. Ты можешь подтянуться в 2-3 раза меньше чем обычно. Выполняй 4-5 серий с отягощением максимальное количество раз, отдыхая между сериями 60 секун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е на низкой переклади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адина находится на высоте от 40 до 65 см в зависимости от роста. Повиснуть на этой перекладине. Хват – прямой, корпус и ноги вытянуть в одну линию. Сводя лопатки и сохраняя тело идеально прямым, подтягиваемся, коснувшись перекладины грудью. Плавно возвращаясь в исходное полож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C:\Users\Ждановы\Desktop\05f00aa7b51e68bd14713a5c5a2f0984_cropped_6923777251fffd3b5049475339a60cd4_550x387.jpg"/>
          <p:cNvPicPr/>
          <p:nvPr/>
        </p:nvPicPr>
        <p:blipFill>
          <a:blip r:embed="rId2"/>
          <a:stretch/>
        </p:blipFill>
        <p:spPr>
          <a:xfrm>
            <a:off x="4000680" y="4357800"/>
            <a:ext cx="3143160" cy="2211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ают два стиля катания на лыжа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ческий стиль – лыжи перемещаются параллельно относительно друг др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ьковый стиль – лыжник двигается как конькобежец, отталкиваясь от снега внутренней поверхностью лыж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ыжи изготавливают из 2 материал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большим спросом пользуются именно пластиковые лыжи, а деревянные лыжи уже мало где можно купить. Пластиковые лыжи имеют много преимуществ перед деревянными. Они прочнее, долговечнее – не расслаиваются и не намокают, они легче и скоростнее. На пластиковых лыжах можно кататься даже в оттеп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C:\Users\Ждановы\Desktop\12987567524711.jpg"/>
          <p:cNvPicPr/>
          <p:nvPr/>
        </p:nvPicPr>
        <p:blipFill>
          <a:blip r:embed="rId2"/>
          <a:stretch/>
        </p:blipFill>
        <p:spPr>
          <a:xfrm>
            <a:off x="7215120" y="142884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Ждановы\Desktop\07be573055ec.jpg"/>
          <p:cNvPicPr/>
          <p:nvPr/>
        </p:nvPicPr>
        <p:blipFill>
          <a:blip r:embed="rId3"/>
          <a:stretch/>
        </p:blipFill>
        <p:spPr>
          <a:xfrm>
            <a:off x="6194520" y="5715000"/>
            <a:ext cx="29494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правильно выбрать длину лыж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на. Основной способ вытянуть руку вверх и из получившейся высоты отнять 10 с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ли ваш вес намного больше (меньше) роста, указанного в таблице, вам нужно от длины лыж, предлагаемой в таблице, отнять (прибавить) 5-8 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таблица по которой можно вычислить длину лыж и пал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85920" y="4357800"/>
          <a:ext cx="6095880" cy="21081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с (к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-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-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-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-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-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лыж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-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-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-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-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-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палок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-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-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-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85840" y="-219240"/>
            <a:ext cx="7462800" cy="1152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56760" y="11426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(2 клас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1643040"/>
          <a:ext cx="6429240" cy="4378320"/>
        </p:xfrm>
        <a:graphic>
          <a:graphicData uri="http://schemas.openxmlformats.org/drawingml/2006/table">
            <a:tbl>
              <a:tblPr/>
              <a:tblGrid>
                <a:gridCol w="428760"/>
                <a:gridCol w="1928520"/>
                <a:gridCol w="1071720"/>
                <a:gridCol w="857160"/>
                <a:gridCol w="1071720"/>
                <a:gridCol w="1071360"/>
              </a:tblGrid>
              <a:tr h="368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испы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ночный бе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3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учета време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ыжки в длину с места (с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ание мяча в ц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высо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низ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он вниз с прямыми ног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1 км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2 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85840" y="-219240"/>
            <a:ext cx="7462800" cy="1152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56760" y="11426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(3-4 клас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42960" y="1643040"/>
          <a:ext cx="6429240" cy="4378320"/>
        </p:xfrm>
        <a:graphic>
          <a:graphicData uri="http://schemas.openxmlformats.org/drawingml/2006/table">
            <a:tbl>
              <a:tblPr/>
              <a:tblGrid>
                <a:gridCol w="428760"/>
                <a:gridCol w="1928520"/>
                <a:gridCol w="1071720"/>
                <a:gridCol w="857160"/>
                <a:gridCol w="1071720"/>
                <a:gridCol w="10713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испы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0 метров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150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ыжки в длину с места (с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ание мяча на да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высо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низ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он вниз с прямыми ног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1 км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2 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а физкультурной подготовки в общеобразовательных школ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овала программа с 1931 по 1991 год. Охватывала возраст от 10 до 60 лет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2010 года программа начала свое возрожд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944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C:\Users\Ждановы\Desktop\az_02.jpg"/>
          <p:cNvPicPr/>
          <p:nvPr/>
        </p:nvPicPr>
        <p:blipFill>
          <a:blip r:embed="rId2"/>
          <a:stretch/>
        </p:blipFill>
        <p:spPr>
          <a:xfrm>
            <a:off x="5072040" y="3774960"/>
            <a:ext cx="2673360" cy="2745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7"/>
          <p:cNvSpPr/>
          <p:nvPr/>
        </p:nvSpPr>
        <p:spPr>
          <a:xfrm>
            <a:off x="357120" y="1214280"/>
            <a:ext cx="700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30 метров, подтянуться определённое количество раз, пройти на лыжах 2 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уровня достижений сдающие нормативы каждой ступени награждались золотым или серебряным значк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Users\Ждановы\Desktop\az_11.jpg"/>
          <p:cNvPicPr/>
          <p:nvPr/>
        </p:nvPicPr>
        <p:blipFill>
          <a:blip r:embed="rId3"/>
          <a:stretch/>
        </p:blipFill>
        <p:spPr>
          <a:xfrm>
            <a:off x="1928880" y="3784680"/>
            <a:ext cx="2714400" cy="277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сдаче норм ГТО существует несколько ступеней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1-2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1 классы нормы не сдают, только знакомятся с видами испытаний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3-4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5-7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8-9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10-11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студенты от 18 до 24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тупень – от 25 до 29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9932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г 30, 60 метров, либо челночный бег 3х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оссовый бег 600, 1500 мет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ыжок в длину с мес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тание мяча в цель, либо на даль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е на высокой и низкой перекладина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клон вниз с прямыми ног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ыжные гонки 1, 2 к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яется с высокого стар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На старт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льнейшую ногу поставить вплотную к стартовой лин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ного повернуть носок внутр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ая нога на 1,5–2 стопы сзад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яжесть тела равномерно распределяется на обе ног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уловище выпрямле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и свободно опуще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Внимание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лонить туловище вперед под углом 45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яжесть тела перенести на сильнейшую ног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Марш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гун резко бросается впере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5–6 шагов принимается вертикальное положение те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Users\Ждановы\Desktop\13-16.jpg"/>
          <p:cNvPicPr/>
          <p:nvPr/>
        </p:nvPicPr>
        <p:blipFill>
          <a:blip r:embed="rId2"/>
          <a:stretch/>
        </p:blipFill>
        <p:spPr>
          <a:xfrm>
            <a:off x="6572160" y="642960"/>
            <a:ext cx="952560" cy="26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Ждановы\Desktop\13-17.jpg"/>
          <p:cNvPicPr/>
          <p:nvPr/>
        </p:nvPicPr>
        <p:blipFill>
          <a:blip r:embed="rId3"/>
          <a:stretch/>
        </p:blipFill>
        <p:spPr>
          <a:xfrm>
            <a:off x="5143680" y="3357720"/>
            <a:ext cx="1466640" cy="21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Ждановы\Desktop\13-18.jpg"/>
          <p:cNvPicPr/>
          <p:nvPr/>
        </p:nvPicPr>
        <p:blipFill>
          <a:blip r:embed="rId4"/>
          <a:stretch/>
        </p:blipFill>
        <p:spPr>
          <a:xfrm>
            <a:off x="6429240" y="4214880"/>
            <a:ext cx="152424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ика прыжка в длину с места дели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готовку к отталкива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талки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земле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C:\Users\Ждановы\Desktop\ref-2_865276534-9045.coolpic"/>
          <p:cNvPicPr/>
          <p:nvPr/>
        </p:nvPicPr>
        <p:blipFill>
          <a:blip r:embed="rId2"/>
          <a:stretch/>
        </p:blipFill>
        <p:spPr>
          <a:xfrm>
            <a:off x="1143000" y="4071960"/>
            <a:ext cx="485784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ржание мяча: указательный, средний, безымянный пальцы размещены сзади мяча, а большой и мизинец поддерживают мяч сбоку. Рука, удерживающая снаряд, не напряж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ика метания мяча состоит из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ржание мяч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ах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ос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C:\Users\Ждановы\Desktop\15.jpg"/>
          <p:cNvPicPr/>
          <p:nvPr/>
        </p:nvPicPr>
        <p:blipFill>
          <a:blip r:embed="rId2"/>
          <a:stretch/>
        </p:blipFill>
        <p:spPr>
          <a:xfrm>
            <a:off x="3057480" y="4214880"/>
            <a:ext cx="4092480" cy="1708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юношей используется подтягивание на высокой перекладине. Существует 2 вида подтягивани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я прямым хват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я обратным хват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девушек используется подтягивание на низкой перекладин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5:21:02Z</dcterms:created>
  <dc:creator>Ждановы</dc:creator>
  <dc:description/>
  <dc:language>en-US</dc:language>
  <cp:lastModifiedBy>User</cp:lastModifiedBy>
  <dcterms:modified xsi:type="dcterms:W3CDTF">2014-12-24T07:17:18Z</dcterms:modified>
  <cp:revision>28</cp:revision>
  <dc:subject/>
  <dc:title>ГТО</dc:title>
</cp:coreProperties>
</file>